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0CF0-5895-42F6-B529-F578C5E61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AA60F-0C4A-46B7-8DA4-86932FFA9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2C03D-591C-4CB5-8DB7-6151A481A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C64A-3DAE-4B3A-A1C0-B9F94C889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E142-1ACD-4DC6-94FE-DC2E2D141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T’S IMPORTANT BECAUSE YOU HAVE TO ORGANISE YOUR OWN TIME, KNOW WHAT RESOURCES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exible timet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je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ing ow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dentifying own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tting own agen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E2D6-2328-4091-B908-1692CA728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8B74B-6576-4417-B07C-54DBC8C55E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6418D-D3F5-4763-9F59-AFA211B4D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831D-D69C-4161-A224-F0956AC51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BC83-C299-4883-9E8F-863568082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3A4FF-2600-40E1-AFAF-4065A2E03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4026F-3EBF-46DE-A31B-27A5FBBCC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99CF7-F0F7-4038-AAB8-2D949F52DD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C217B-B79F-48EA-88EE-931DA9DEF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62A1-3162-4202-A00E-EED8F5007E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DF7D-122C-4259-9844-FDD6C5D6A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78D9-8669-45AF-8CA5-FA22D90C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524-AB30-41B1-8D56-F107F924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DBB-3B3F-47BE-9833-E0C58F6A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C35-F918-42BB-81D0-DFA2C475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010E-A467-4F4E-A17F-23D1CE06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984F-F6E3-4BEA-AF20-25363570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1AAE-48EB-433F-A1E3-2EB3BE233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43E7-DD12-4FBF-BE3F-D273C161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C406-021C-4705-AFB8-8B29376F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23C9-B4F5-4338-B9C8-931602D6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612C-8367-49F6-A4A3-477B091C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f9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E6C3D-2787-491D-8F6E-E63A35A3D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7"/>
          <p:cNvSpPr/>
          <p:nvPr/>
        </p:nvSpPr>
        <p:spPr>
          <a:xfrm>
            <a:off x="3635280" y="1197000"/>
            <a:ext cx="4824360" cy="0"/>
          </a:xfrm>
          <a:prstGeom prst="line">
            <a:avLst/>
          </a:prstGeom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9"/>
          <p:cNvSpPr/>
          <p:nvPr/>
        </p:nvSpPr>
        <p:spPr>
          <a:xfrm>
            <a:off x="6372360" y="1341360"/>
            <a:ext cx="2087280" cy="0"/>
          </a:xfrm>
          <a:prstGeom prst="line">
            <a:avLst/>
          </a:prstGeom>
          <a:ln w="3168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udesign.com/mnems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tting Started in HE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anaging your own lear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3132000" y="3933720"/>
            <a:ext cx="2808360" cy="1600200"/>
            <a:chOff x="3132000" y="3933720"/>
            <a:chExt cx="2808360" cy="1600200"/>
          </a:xfrm>
        </p:grpSpPr>
        <p:pic>
          <p:nvPicPr>
            <p:cNvPr id="53" name="Picture 5" descr="MMj03957820000[1]"/>
            <p:cNvPicPr/>
            <p:nvPr/>
          </p:nvPicPr>
          <p:blipFill>
            <a:blip r:embed="rId1"/>
            <a:stretch/>
          </p:blipFill>
          <p:spPr>
            <a:xfrm>
              <a:off x="3132000" y="3933720"/>
              <a:ext cx="280836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6"/>
            <p:cNvSpPr/>
            <p:nvPr/>
          </p:nvSpPr>
          <p:spPr>
            <a:xfrm>
              <a:off x="3924000" y="4581360"/>
              <a:ext cx="158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ff3300"/>
                  </a:solidFill>
                  <a:latin typeface="Tempus Sans ITC"/>
                </a:rPr>
                <a:t>Routes to</a:t>
              </a:r>
              <a:r>
                <a:rPr b="0" lang="en-GB" sz="1800" spc="-1" strike="noStrike">
                  <a:solidFill>
                    <a:srgbClr val="000000"/>
                  </a:solidFill>
                  <a:latin typeface="Tempus Sans IT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AutoShape 7"/>
            <p:cNvSpPr/>
            <p:nvPr/>
          </p:nvSpPr>
          <p:spPr>
            <a:xfrm rot="16200000">
              <a:off x="5149080" y="4653720"/>
              <a:ext cx="792000" cy="504720"/>
            </a:xfrm>
            <a:custGeom>
              <a:avLst/>
              <a:gdLst>
                <a:gd name="textAreaLeft" fmla="*/ 123840 w 792000"/>
                <a:gd name="textAreaRight" fmla="*/ 693720 w 792000"/>
                <a:gd name="textAreaTop" fmla="*/ 126720 h 504720"/>
                <a:gd name="textAreaBottom" fmla="*/ 37944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200" spc="-1" strike="noStrike">
                <a:solidFill>
                  <a:srgbClr val="3333cc"/>
                </a:solidFill>
                <a:latin typeface="Arial"/>
              </a:rPr>
              <a:t>kinaesthetic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ake frequent study brea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ve around to learn new th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g read while on an exercise bi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y model a difficult/new con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ff"/>
                </a:solidFill>
                <a:latin typeface="Arial"/>
              </a:rPr>
              <a:t>Highlight reading with bright col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ke posters and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kim read before reading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touch"/>
          <p:cNvPicPr/>
          <p:nvPr/>
        </p:nvPicPr>
        <p:blipFill>
          <a:blip r:embed="rId1"/>
          <a:stretch/>
        </p:blipFill>
        <p:spPr>
          <a:xfrm>
            <a:off x="7164360" y="4508640"/>
            <a:ext cx="162072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j0295281"/>
          <p:cNvPicPr/>
          <p:nvPr/>
        </p:nvPicPr>
        <p:blipFill>
          <a:blip r:embed="rId1"/>
          <a:stretch/>
        </p:blipFill>
        <p:spPr>
          <a:xfrm>
            <a:off x="6732720" y="2060640"/>
            <a:ext cx="1815840" cy="18050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j0295294"/>
          <p:cNvPicPr/>
          <p:nvPr/>
        </p:nvPicPr>
        <p:blipFill>
          <a:blip r:embed="rId2"/>
          <a:stretch/>
        </p:blipFill>
        <p:spPr>
          <a:xfrm>
            <a:off x="7020000" y="407664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dependent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are independent learner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their own learning 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re to get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how to us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moan if they have to do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wor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e motiv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now when to 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j0295281"/>
          <p:cNvPicPr/>
          <p:nvPr/>
        </p:nvPicPr>
        <p:blipFill>
          <a:blip r:embed="rId1"/>
          <a:stretch/>
        </p:blipFill>
        <p:spPr>
          <a:xfrm>
            <a:off x="6948360" y="2060640"/>
            <a:ext cx="1816200" cy="1805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j0295294"/>
          <p:cNvPicPr/>
          <p:nvPr/>
        </p:nvPicPr>
        <p:blipFill>
          <a:blip r:embed="rId2"/>
          <a:stretch/>
        </p:blipFill>
        <p:spPr>
          <a:xfrm>
            <a:off x="7236000" y="4149720"/>
            <a:ext cx="135072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 you an independent learn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s up……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tivation to learn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ing learning resources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me management        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A  or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788000" y="1052640"/>
            <a:ext cx="4176720" cy="2520720"/>
          </a:xfrm>
          <a:prstGeom prst="irregularSeal2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5508720" y="206064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e handout Activity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elieve in yoursel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http://www.des.emory.edu/mfp/se-ghandi.jpg"/>
          <p:cNvPicPr/>
          <p:nvPr/>
        </p:nvPicPr>
        <p:blipFill>
          <a:blip r:embed="rId1"/>
          <a:stretch/>
        </p:blipFill>
        <p:spPr>
          <a:xfrm>
            <a:off x="179280" y="1916280"/>
            <a:ext cx="2089080" cy="230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2411280" y="1773360"/>
          <a:ext cx="6121440" cy="2651040"/>
        </p:xfrm>
        <a:graphic>
          <a:graphicData uri="http://schemas.openxmlformats.org/drawingml/2006/table">
            <a:tbl>
              <a:tblPr/>
              <a:tblGrid>
                <a:gridCol w="6121440"/>
              </a:tblGrid>
              <a:tr h="2651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"If I have the belief that I can do it, I shall surely acquire the capacity to do it even if I may not have it at the beginning."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4000"/>
                          </a:solidFill>
                          <a:latin typeface="Verdana"/>
                          <a:ea typeface="Times New Roman"/>
                        </a:rPr>
                        <a:t>~ Mahatma Gandhi ~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ee8aa"/>
                    </a:solidFill>
                  </a:tcPr>
                </a:tc>
              </a:tr>
            </a:tbl>
          </a:graphicData>
        </a:graphic>
      </p:graphicFrame>
      <p:sp>
        <p:nvSpPr>
          <p:cNvPr id="120" name="Text Box 11"/>
          <p:cNvSpPr/>
          <p:nvPr/>
        </p:nvSpPr>
        <p:spPr>
          <a:xfrm>
            <a:off x="1187280" y="566100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ver say “ I can’t do that”  always say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“I can’t do tha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ye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ims of this s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why these are important for you to manage your own learning and become a proficient lear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know yourself as a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 you an independent learn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o you believe in yourse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learning is an important ski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arning is a life ski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half life of knowledge is shor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95% of drugs in use in 1978 were unheard of in 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chanical engineers’ knowledge 7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ftware developers 2 – 3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felong learning is not an o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mployers want motivated graduates who continue to lea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You need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nderstand yourself as a lear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motiv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e responsible for your own lea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flect on your prog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Do you know your learning styl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eye1"/>
          <p:cNvPicPr/>
          <p:nvPr/>
        </p:nvPicPr>
        <p:blipFill>
          <a:blip r:embed="rId1"/>
          <a:stretch/>
        </p:blipFill>
        <p:spPr>
          <a:xfrm>
            <a:off x="900000" y="3213000"/>
            <a:ext cx="2159280" cy="1641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ear1"/>
          <p:cNvPicPr/>
          <p:nvPr/>
        </p:nvPicPr>
        <p:blipFill>
          <a:blip r:embed="rId2"/>
          <a:stretch/>
        </p:blipFill>
        <p:spPr>
          <a:xfrm>
            <a:off x="3708360" y="2781360"/>
            <a:ext cx="1835280" cy="25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touch"/>
          <p:cNvPicPr/>
          <p:nvPr/>
        </p:nvPicPr>
        <p:blipFill>
          <a:blip r:embed="rId3"/>
          <a:stretch/>
        </p:blipFill>
        <p:spPr>
          <a:xfrm>
            <a:off x="6156360" y="2781360"/>
            <a:ext cx="1954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how of ha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20"/>
          <p:cNvGrpSpPr/>
          <p:nvPr/>
        </p:nvGrpSpPr>
        <p:grpSpPr>
          <a:xfrm>
            <a:off x="1116000" y="2997360"/>
            <a:ext cx="6480360" cy="360360"/>
            <a:chOff x="1116000" y="2997360"/>
            <a:chExt cx="6480360" cy="360360"/>
          </a:xfrm>
        </p:grpSpPr>
        <p:sp>
          <p:nvSpPr>
            <p:cNvPr id="68" name="Line 5"/>
            <p:cNvSpPr/>
            <p:nvPr/>
          </p:nvSpPr>
          <p:spPr>
            <a:xfrm>
              <a:off x="1116000" y="321300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7"/>
            <p:cNvSpPr/>
            <p:nvPr/>
          </p:nvSpPr>
          <p:spPr>
            <a:xfrm>
              <a:off x="111600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9"/>
            <p:cNvSpPr/>
            <p:nvPr/>
          </p:nvSpPr>
          <p:spPr>
            <a:xfrm>
              <a:off x="7596360" y="299736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1"/>
            <p:cNvSpPr/>
            <p:nvPr/>
          </p:nvSpPr>
          <p:spPr>
            <a:xfrm>
              <a:off x="270036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12"/>
            <p:cNvSpPr/>
            <p:nvPr/>
          </p:nvSpPr>
          <p:spPr>
            <a:xfrm>
              <a:off x="457200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13"/>
            <p:cNvSpPr/>
            <p:nvPr/>
          </p:nvSpPr>
          <p:spPr>
            <a:xfrm>
              <a:off x="6227640" y="299736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19"/>
          <p:cNvGrpSpPr/>
          <p:nvPr/>
        </p:nvGrpSpPr>
        <p:grpSpPr>
          <a:xfrm>
            <a:off x="1116000" y="5373720"/>
            <a:ext cx="6480360" cy="360360"/>
            <a:chOff x="1116000" y="5373720"/>
            <a:chExt cx="6480360" cy="360360"/>
          </a:xfrm>
        </p:grpSpPr>
        <p:sp>
          <p:nvSpPr>
            <p:cNvPr id="75" name="Line 6"/>
            <p:cNvSpPr/>
            <p:nvPr/>
          </p:nvSpPr>
          <p:spPr>
            <a:xfrm>
              <a:off x="1116000" y="5589720"/>
              <a:ext cx="648036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8"/>
            <p:cNvSpPr/>
            <p:nvPr/>
          </p:nvSpPr>
          <p:spPr>
            <a:xfrm>
              <a:off x="111600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10"/>
            <p:cNvSpPr/>
            <p:nvPr/>
          </p:nvSpPr>
          <p:spPr>
            <a:xfrm>
              <a:off x="7596360" y="5373720"/>
              <a:ext cx="0" cy="36036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>
              <a:off x="270036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50072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>
              <a:off x="6227640" y="5373720"/>
              <a:ext cx="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 Box 17"/>
          <p:cNvSpPr/>
          <p:nvPr/>
        </p:nvSpPr>
        <p:spPr>
          <a:xfrm>
            <a:off x="395280" y="213372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ft 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7020000" y="2205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ght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misp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1"/>
          <p:cNvSpPr/>
          <p:nvPr/>
        </p:nvSpPr>
        <p:spPr>
          <a:xfrm>
            <a:off x="539640" y="47912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is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2"/>
          <p:cNvSpPr/>
          <p:nvPr/>
        </p:nvSpPr>
        <p:spPr>
          <a:xfrm>
            <a:off x="7162920" y="479124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udi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Know your learning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4"/>
          <p:cNvGrpSpPr/>
          <p:nvPr/>
        </p:nvGrpSpPr>
        <p:grpSpPr>
          <a:xfrm>
            <a:off x="468360" y="1989000"/>
            <a:ext cx="7704000" cy="1191240"/>
            <a:chOff x="468360" y="1989000"/>
            <a:chExt cx="7704000" cy="1191240"/>
          </a:xfrm>
        </p:grpSpPr>
        <p:sp>
          <p:nvSpPr>
            <p:cNvPr id="87" name="Text Box 5"/>
            <p:cNvSpPr/>
            <p:nvPr/>
          </p:nvSpPr>
          <p:spPr>
            <a:xfrm>
              <a:off x="1692360" y="227664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V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sua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Picture 6" descr="eye1"/>
            <p:cNvPicPr/>
            <p:nvPr/>
          </p:nvPicPr>
          <p:blipFill>
            <a:blip r:embed="rId1"/>
            <a:stretch/>
          </p:blipFill>
          <p:spPr>
            <a:xfrm>
              <a:off x="468360" y="2133720"/>
              <a:ext cx="1190520" cy="90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Text Box 7"/>
            <p:cNvSpPr/>
            <p:nvPr/>
          </p:nvSpPr>
          <p:spPr>
            <a:xfrm>
              <a:off x="3203640" y="1989000"/>
              <a:ext cx="4968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seeing and observing things. You like demonstrations, displays, handouts &amp; most visual materials. You use pictures and diagram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Group 8"/>
          <p:cNvGrpSpPr/>
          <p:nvPr/>
        </p:nvGrpSpPr>
        <p:grpSpPr>
          <a:xfrm>
            <a:off x="684360" y="3213000"/>
            <a:ext cx="7488000" cy="1305000"/>
            <a:chOff x="684360" y="3213000"/>
            <a:chExt cx="7488000" cy="1305000"/>
          </a:xfrm>
        </p:grpSpPr>
        <p:sp>
          <p:nvSpPr>
            <p:cNvPr id="91" name="Text Box 9"/>
            <p:cNvSpPr/>
            <p:nvPr/>
          </p:nvSpPr>
          <p:spPr>
            <a:xfrm>
              <a:off x="1763640" y="3573360"/>
              <a:ext cx="1584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A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uditor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10" descr="ear1"/>
            <p:cNvPicPr/>
            <p:nvPr/>
          </p:nvPicPr>
          <p:blipFill>
            <a:blip r:embed="rId2"/>
            <a:stretch/>
          </p:blipFill>
          <p:spPr>
            <a:xfrm>
              <a:off x="684360" y="3213000"/>
              <a:ext cx="923760" cy="130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11"/>
            <p:cNvSpPr/>
            <p:nvPr/>
          </p:nvSpPr>
          <p:spPr>
            <a:xfrm>
              <a:off x="3203640" y="357336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listening.  You may talk to yourself when revising, put things on a tape et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684360" y="4797360"/>
            <a:ext cx="7619400" cy="1564560"/>
            <a:chOff x="684360" y="4797360"/>
            <a:chExt cx="7619400" cy="1564560"/>
          </a:xfrm>
        </p:grpSpPr>
        <p:sp>
          <p:nvSpPr>
            <p:cNvPr id="95" name="Text Box 17"/>
            <p:cNvSpPr/>
            <p:nvPr/>
          </p:nvSpPr>
          <p:spPr>
            <a:xfrm>
              <a:off x="1750680" y="5013360"/>
              <a:ext cx="223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3333cc"/>
                  </a:solidFill>
                  <a:latin typeface="Arial"/>
                </a:rPr>
                <a:t>K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inaestheti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Picture 18" descr="touch"/>
            <p:cNvPicPr/>
            <p:nvPr/>
          </p:nvPicPr>
          <p:blipFill>
            <a:blip r:embed="rId3"/>
            <a:stretch/>
          </p:blipFill>
          <p:spPr>
            <a:xfrm>
              <a:off x="684360" y="4797360"/>
              <a:ext cx="923400" cy="11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 Box 19"/>
            <p:cNvSpPr/>
            <p:nvPr/>
          </p:nvSpPr>
          <p:spPr>
            <a:xfrm>
              <a:off x="3335040" y="5445000"/>
              <a:ext cx="4968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You learn best from physical experience, touching, feeling, holding, doing practicals – hands on experience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visual learner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icipate frequently in discussions/deb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ke speeches and pres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speech recognition software for your P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ragon Naturally Speaking or Via V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a dictaph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reate musical jingles and mnemonics to aid mem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udesign.com/mnem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 in a quiet area as you ar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tracted by no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ear1"/>
          <p:cNvPicPr/>
          <p:nvPr/>
        </p:nvPicPr>
        <p:blipFill>
          <a:blip r:embed="rId2"/>
          <a:stretch/>
        </p:blipFill>
        <p:spPr>
          <a:xfrm>
            <a:off x="7236000" y="4797360"/>
            <a:ext cx="1441440" cy="1727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vice for </a:t>
            </a:r>
            <a:r>
              <a:rPr b="1" lang="en-GB" sz="4600" spc="-1" strike="noStrike">
                <a:solidFill>
                  <a:srgbClr val="3333cc"/>
                </a:solidFill>
                <a:latin typeface="Arial"/>
              </a:rPr>
              <a:t>auditory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learn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12:36:16Z</dcterms:created>
  <dc:creator>Pat J Maier</dc:creator>
  <dc:description/>
  <cp:keywords>UKOER sfsoer</cp:keywords>
  <dc:language>en-US</dc:language>
  <cp:lastModifiedBy>martin</cp:lastModifiedBy>
  <dcterms:modified xsi:type="dcterms:W3CDTF">2010-03-24T09:55:35Z</dcterms:modified>
  <cp:revision>23</cp:revision>
  <dc:subject/>
  <dc:title>Getting started in HE</dc:title>
</cp:coreProperties>
</file>